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8.gif" ContentType="image/gif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3E9-BE76-41FA-9DAF-4AE43FFD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483-80FB-42AE-BC81-BCB607EE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2EE-4427-433C-B403-8D7252C9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B84-823A-4CB1-9A01-EEA6E095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9313-7161-4B6A-B7AC-0E3A6D8F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901F-2AFC-4ABE-A666-5D7DE36D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5401-BC2C-4635-8DC8-95A467DC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E344-C313-4769-9146-283E8057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D3FD-2B49-4071-A783-8E59FE3E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3697-899D-4836-A209-BA586B31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22F9-F79E-44F4-851A-6F25647C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193-AA16-49D5-9463-BCA36A62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2F51-0829-41DB-9C1C-C4075AF3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00A1-8967-427E-B1E7-A557DF2F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F0EA-EDFE-48C1-BE01-3F748284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9E0C-7B5C-42AB-8D0B-74DF984F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E7DC-8753-4755-9B50-F86C4BED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DCE-301D-456B-8438-C157B50C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E2C-ED98-4355-8219-F54934D0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453-A0AC-4CE7-8422-EEA38AB0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994-EB1A-4424-9A26-88BE0F73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72C-40C2-4CBA-8BEF-406EC632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BDB1-58D0-45EE-BD1C-C778417A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2AB-0288-43C4-9DE9-A0AB373A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A949-32FE-4C1D-BCBA-BABA3A45CA6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095E-9D1A-4147-9D55-D1AAF55A17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nline.cctt.org/physicslab/content/Phy1/lessonnotes/atomic/atomicmodelsandspectra.asp" TargetMode="External"/><Relationship Id="rId2" Type="http://schemas.openxmlformats.org/officeDocument/2006/relationships/hyperlink" Target="http://micro.magnet.fsu.edu/electromag/java/rutherford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ip.org/history/electron/jjappara.htm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4/25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ic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Chem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Nucleus Exists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1- Ernest Rutherford uses the gold foil experiment to “discover”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114800" y="2266920"/>
            <a:ext cx="50292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Gold Foil Experi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722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sults of Gold Foil Experiment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online.cctt.org/physicslab/content/Phy1/lessonnotes/atomic/atomicmodelsandspectra.as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micro.magnet.fsu.edu/electromag/java/rutherfor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ver 98% of the particles went straight throug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out 2% of the particles went through but were deflected by large ang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out 0.01% of the particles bounced off the gold foi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utherford’s Concl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66320" y="1981080"/>
            <a:ext cx="7543800" cy="4114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543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Rutherford's Nuclear Model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6854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The atom contains a tiny dense center called the nucle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olume is about 1/10 trillionth the volume of the ato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The nucleus is essentially the entire mass of the at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The nucleus is positively char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mount of positive charge of the nucleus balances the negative charge of the electr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The electrons move around in the empty space of the atom surrounding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worker James Chadwick later adds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derstanding Periodic Block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9.098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482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# of prot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ment Symb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ons + Neu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666880" y="3504960"/>
            <a:ext cx="2438640" cy="1904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362320" y="2742840"/>
            <a:ext cx="27432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362320" y="228600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n 20.0983 Neutrons Exist??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, 39.0983 is an average mass of all natural K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K atoms MUST have 19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have 20 neutrons, some 19, some 21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rage is 20.0983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 isotopes are identified by the number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dentifying Protons, Neutrons, and Electr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ine-35 (element-mass numb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of protons =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electrons = # 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neutrons = mass number – 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-17 = 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no electrons in atomic mas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 has mass 1/1837 of Proton and Neut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395360" indent="-4903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uclear symbol not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nuclide symbo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7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1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   or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7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 protons =    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 neutrons =  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 electrons =  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95360" indent="-4903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lems that ar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harges and Ion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only changes the number of electrons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Finding mass numb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use symbol, # p+ and 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or periodic table IN THAT ORDER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tomic Mass Uni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amu = 1/12 mass of a C-12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Long, Long Time Ago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ek Philosophers- 4 elements are Earth, Water, Fire, and 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istotle- first recorded atomic thou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ter is continuous (no ato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critus (400 B.C.) - first recorded atomic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oms are smallest part of matter, each type of matter has different a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uclear Stability- too many neutrons or protons causes instabilit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" descr="nstability.jpg (45085 bytes)"/>
          <p:cNvPicPr/>
          <p:nvPr/>
        </p:nvPicPr>
        <p:blipFill>
          <a:blip r:embed="rId1"/>
          <a:srcRect l="15119" t="9927" r="16082" b="0"/>
          <a:stretch/>
        </p:blipFill>
        <p:spPr>
          <a:xfrm>
            <a:off x="1219320" y="1981080"/>
            <a:ext cx="6476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emical vs. Nuclear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2" marL="1282680" indent="-45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emical Chan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roduces new kinds of matter with new proper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23600" indent="-3754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olves breaking and forming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23600" indent="-3754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mplished by rearrangement of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82680" indent="-45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Nuclear Chan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roduces a new nucleus that contains less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23600" indent="-3754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olves emission or capture of nuclear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23600" indent="-3754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mplished by changing PROTONS and NEUTRONS in nucl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uclear Dec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P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- rapidly moving He nuclei with a (+)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a – rapidly moving electrons with a (-)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mma – rapidly moving electromagnetic radiation with no mass or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686640" y="505296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7880" y="505296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5052960"/>
            <a:ext cx="2552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05296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l Haz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6640" y="410832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-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57880" y="410832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4108320"/>
            <a:ext cx="2552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10832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ological Haz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86640" y="329724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57880" y="329724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3297240"/>
            <a:ext cx="2552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97240"/>
            <a:ext cx="19051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86640" y="1925640"/>
            <a:ext cx="222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d (2 cm le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57880" y="1925640"/>
            <a:ext cx="222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um (aluminum f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1925640"/>
            <a:ext cx="2552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kin/cloth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925640"/>
            <a:ext cx="190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ie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86640" y="1116000"/>
            <a:ext cx="2228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57880" y="1116000"/>
            <a:ext cx="2228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1116000"/>
            <a:ext cx="2552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116000"/>
            <a:ext cx="19051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86640" y="30492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MMA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57880" y="30492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A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304920"/>
            <a:ext cx="2552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04920"/>
            <a:ext cx="19051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04920"/>
            <a:ext cx="89154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16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92564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9724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10832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997600"/>
            <a:ext cx="89154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04920"/>
            <a:ext cx="0" cy="56926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304920"/>
            <a:ext cx="0" cy="569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57880" y="304920"/>
            <a:ext cx="0" cy="569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86640" y="304920"/>
            <a:ext cx="0" cy="569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915400" y="304920"/>
            <a:ext cx="0" cy="56926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05296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ther Radi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40080" indent="-640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onizing Radiation- has significant energy to change atoms and molecules into 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30880" indent="-400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s: alpha, beta, gamma, x-ra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30880" indent="-400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ffects to living organisms: changes in, DNA (cell death/canc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308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40080" indent="-640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ionizing radiation- does not have significant energy to ionize atoms or molecules (types: microwaves, visible light, radiowav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uclear Rea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mutation- Changing the nucleus of the atom to create a new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s a Nuclear Equation Writ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ent nuclide- initial nucleus that undergoes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ughter nuclide- nucleus resulting from decay of par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 of Nuclear Rea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 Emission- generally occurs if nucleus has too many protons and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a Emission- results from conversion of neutron to proton and occurs if nucleus has too many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ron Emission- results from conversion of proton to neutron and occurs if nucleus has too few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mma Emission- often accompanies other decay process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ample: Alpha Dec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5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9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______    +   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Radioactive Decay </a:t>
            </a:r>
            <a:br>
              <a:rPr sz="4000"/>
            </a:b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Half-lives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f-life is the time taken for half of the atoms of a radio-active substance to dec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82296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Half-lif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f-lives can range from a millionth of a second to millions of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483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ristotle and Democrit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1981080"/>
            <a:ext cx="338328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70600" y="19810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38080" y="2655720"/>
            <a:ext cx="810756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Radioactive Dat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carbon-14 to tell age of foss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-14 is present constantly in atmosp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.3 decays/min in living organ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ays/min decreases by ½ every 5370 years an organism is de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useful to 60,000 yrs 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Trac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active isotopes used to track path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mistry/biology- pathways of rea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y and environment- path of groundwater, durability of contai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cine- diagnose malfunction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uclear Reactions for Energy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sion- nucleus broken into 2 smaller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sion- smaller nuclei join to form a larger, more stable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actants and Produc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sion-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9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3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 fuel used in a chain re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mited resour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itical mass- minimum mass to sustain chain re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sk of runaway chain re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es radioactive waste produ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posal concer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ction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ion-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 an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 used as fu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tracted from sea wa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 a chain re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risk of runaway reac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radioactive waste: heliu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roblem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eds temp of 200 Million 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ction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4876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uclear Power-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enerated by a controlled </a:t>
            </a:r>
            <a:r>
              <a:rPr b="1" lang="en-US" sz="4000" spc="-1" strike="noStrike" u="sng">
                <a:solidFill>
                  <a:srgbClr val="eaeaea"/>
                </a:solidFill>
                <a:uFillTx/>
                <a:latin typeface="Tahoma"/>
              </a:rPr>
              <a:t>fission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chain rea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3580920"/>
            <a:ext cx="36957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rods- absorb neutrons to slow the chain re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of cadm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erted or withdrawn to keep temp of reaction ste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57800" y="350532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8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ators- slow neutrons down so they DO hit uranium fuel ro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80240" indent="-480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of water, beryllium, or graph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80240" indent="-48024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nded to allow neutrons to be absorbed by uranium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267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oling and Shielding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- acts as a coolant and transfers heat between reactor and turbines that produce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el &amp; concrete- surround core and protect personnel by absorbing radi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839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uclear Meltdown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rynobyl (Soviet Union, 198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naway fission reaction from core meltdo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diation escaped to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1 dead, estimated 15,000 cancer deaths in next 50 ye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e Mile Island (Pennsylvania, 197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tial meltdo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ained before widespread dama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543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Long Time Ago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ine Lavoisier (178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experiments in closed containers to develop the LC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seph Proust (179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zed water to develop the Law of Definite Propor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 Dalton (180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iled past research to develop the first useful atomic the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voisier and Prou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3554640" cy="480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38592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John Dalt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lton’s theory had 4 major ten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matter is composed of ato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s are indivi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s of 1 element are alike, but different from those of other el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s combine in small, whole number ratios to form compou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52680" y="2232000"/>
            <a:ext cx="27241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Remind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ation, Observation, Obser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o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iment, Revise hypothesis lots of 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s match….may become a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Little While Ago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97- J.J. Thomson discovers the electron using a cathode ray tu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304920" y="2590920"/>
            <a:ext cx="495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athode Ray Tube Experiment</a:t>
            </a:r>
            <a:br>
              <a:rPr sz="4000"/>
            </a:br>
            <a:r>
              <a:rPr b="1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aip.org/history/electron/jjappara.htm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066320" y="1981080"/>
            <a:ext cx="754380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371600" y="2133720"/>
            <a:ext cx="7238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1:56:12Z</dcterms:created>
  <dc:creator>cmichene</dc:creator>
  <dc:description/>
  <dc:language>en-US</dc:language>
  <cp:lastModifiedBy>udsd</cp:lastModifiedBy>
  <dcterms:modified xsi:type="dcterms:W3CDTF">2010-11-04T12:23:30Z</dcterms:modified>
  <cp:revision>50</cp:revision>
  <dc:subject/>
  <dc:title>Chapter 2</dc:title>
</cp:coreProperties>
</file>